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D97F7-3477-4F74-ACA1-F97FF16CC9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22F5B-8BA9-4BD9-B654-068895F191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D56B2-FE2E-4294-8D3A-DCACBCEB62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31841-326A-4A86-8B02-2B30EF1FBD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6826E-824C-4AB2-B318-532DDEE994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D4DF6-9672-4333-86FA-DCEEE617BB5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AFE53-552B-4A88-8B9E-B33F150FA92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A6672-0A8F-408A-B38B-DB4991BE048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41B01-9839-4C65-8594-F4EBA6C5EB9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7EDDF-1C85-47A9-B547-CB84C600DE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44870-B6DA-4ACA-8553-8D6CCA8B1D4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2F2DD-09A2-4F67-BB4E-AD75802D3AD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0D5C7-6EF2-4EE9-BB9E-AD8436E50D0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598E2-D1E9-4B22-8B52-9DA6C08BF59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892A6-9E1E-4ADD-B5DC-5AA419FC985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6332B-AEFF-4D7E-8574-E0A982CF7A1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E0C30-899B-4500-9DA7-6FA1B532DC5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82E75-BC2F-4FE3-919E-389AB53B825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0C90-60BE-4950-882F-5A6A58E9729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A69F-E45F-4FA0-B571-BCA3C0343B4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37CA-628D-4BDA-867D-B18D4254AF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379EF-B0D3-4570-8146-D818C85AAFD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72F9-0B69-42E0-812C-899E620FC7F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ED61-54B9-4A4F-B4C8-25ED33C81BE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78D1-DBD3-4081-BFF5-7781D1E0124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0014-AD0D-4AE6-B28D-6FE54E4842D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8C6B-45FF-4CC7-9A43-908D4751099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5933-2347-4255-8148-4FCAFDDAE10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017F-DDD2-4214-B3E7-80E64D0F838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62E7-EEEE-4D46-BB6E-4C4D2789FB5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2FC9-835A-43C3-A62D-839487C3CA8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467726-2691-42AA-A8E1-64CF4F8D8F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FCE3C-5683-4028-A90C-67371A5410A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76D742-2409-4B64-BC7E-BBCB6094381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C0A8B7-D0F3-4726-AE48-5BD0383950A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819722-ED37-478F-AC91-E53FBE30B52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3454C3-120C-43F0-A2FF-172019395F3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62596E-1FE3-4C5B-B200-C0B711BB6EB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84CBA-FCFB-4F2F-A8F0-E3D140CB98B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FFDE7B-A898-4574-BD7D-ECF7DC53CEA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4C70C5-CB03-42DE-AB8C-929CA4AB82A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B93A2C-ADA7-41FE-8FB3-C50AA5B9472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CB74BD-67ED-4E34-BAA8-0958FD92CC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85152-F922-40B1-B93A-2ABF2F7C5D1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34477E-D42A-4BE2-8D6F-47FAFF1595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1CCE8-F002-471E-9734-8BF364D219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DA52D-BCD1-4D3D-8139-68DD7B9710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018D1-7A56-4D42-82E9-6B56BF293B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8DE8-DD82-4272-A754-3A23DED92EB3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b6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457200" y="428760"/>
            <a:ext cx="8686800" cy="640080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8ed4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Rectangle 10"/>
          <p:cNvGrpSpPr/>
          <p:nvPr/>
        </p:nvGrpSpPr>
        <p:grpSpPr>
          <a:xfrm>
            <a:off x="450720" y="6486480"/>
            <a:ext cx="8699760" cy="378000"/>
            <a:chOff x="450720" y="6486480"/>
            <a:chExt cx="8699760" cy="378000"/>
          </a:xfrm>
        </p:grpSpPr>
        <p:pic>
          <p:nvPicPr>
            <p:cNvPr id="56" name="Rectangle 10" descr=""/>
            <p:cNvPicPr/>
            <p:nvPr/>
          </p:nvPicPr>
          <p:blipFill>
            <a:blip r:embed="rId3"/>
            <a:stretch/>
          </p:blipFill>
          <p:spPr>
            <a:xfrm>
              <a:off x="450720" y="6486480"/>
              <a:ext cx="86997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457200" y="6492960"/>
              <a:ext cx="8686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TextBox 6"/>
          <p:cNvSpPr/>
          <p:nvPr/>
        </p:nvSpPr>
        <p:spPr>
          <a:xfrm rot="16200000">
            <a:off x="-2063880" y="387720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 lesson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45720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Microsoft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®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Excel 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3657600" y="6521400"/>
            <a:ext cx="54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8"/>
          <p:cNvGrpSpPr/>
          <p:nvPr/>
        </p:nvGrpSpPr>
        <p:grpSpPr>
          <a:xfrm>
            <a:off x="990720" y="1660680"/>
            <a:ext cx="8153280" cy="4114800"/>
            <a:chOff x="990720" y="1660680"/>
            <a:chExt cx="8153280" cy="4114800"/>
          </a:xfrm>
        </p:grpSpPr>
        <p:sp>
          <p:nvSpPr>
            <p:cNvPr id="62" name="Rectangle 4"/>
            <p:cNvSpPr/>
            <p:nvPr/>
          </p:nvSpPr>
          <p:spPr>
            <a:xfrm>
              <a:off x="7132680" y="1660680"/>
              <a:ext cx="2011320" cy="411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Picture 5" descr=""/>
            <p:cNvPicPr/>
            <p:nvPr/>
          </p:nvPicPr>
          <p:blipFill>
            <a:blip r:embed="rId4"/>
            <a:stretch/>
          </p:blipFill>
          <p:spPr>
            <a:xfrm>
              <a:off x="990720" y="1660680"/>
              <a:ext cx="6172200" cy="411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109" name="Straight Connector 4"/>
          <p:cNvSpPr/>
          <p:nvPr/>
        </p:nvSpPr>
        <p:spPr>
          <a:xfrm>
            <a:off x="1447920" y="-76320"/>
            <a:ext cx="0" cy="76320"/>
          </a:xfrm>
          <a:prstGeom prst="line">
            <a:avLst/>
          </a:prstGeom>
          <a:ln w="9360">
            <a:solidFill>
              <a:srgbClr val="9bd2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Num" idx="2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8059-0EC5-473D-8C64-43BEAD89CC1A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6"/>
          <p:cNvSpPr/>
          <p:nvPr/>
        </p:nvSpPr>
        <p:spPr>
          <a:xfrm>
            <a:off x="0" y="0"/>
            <a:ext cx="1066680" cy="13716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457200" y="457200"/>
            <a:ext cx="8686800" cy="6400800"/>
          </a:xfrm>
          <a:prstGeom prst="rect">
            <a:avLst/>
          </a:prstGeom>
          <a:gradFill rotWithShape="0">
            <a:gsLst>
              <a:gs pos="0">
                <a:srgbClr val="26886d"/>
              </a:gs>
              <a:gs pos="100000">
                <a:srgbClr val="8ed4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2286000" y="2133720"/>
            <a:ext cx="68580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Rectangle 13"/>
          <p:cNvGrpSpPr/>
          <p:nvPr/>
        </p:nvGrpSpPr>
        <p:grpSpPr>
          <a:xfrm>
            <a:off x="450720" y="6486480"/>
            <a:ext cx="8699760" cy="378000"/>
            <a:chOff x="450720" y="6486480"/>
            <a:chExt cx="8699760" cy="378000"/>
          </a:xfrm>
        </p:grpSpPr>
        <p:pic>
          <p:nvPicPr>
            <p:cNvPr id="160" name="Rectangle 13" descr=""/>
            <p:cNvPicPr/>
            <p:nvPr/>
          </p:nvPicPr>
          <p:blipFill>
            <a:blip r:embed="rId3"/>
            <a:stretch/>
          </p:blipFill>
          <p:spPr>
            <a:xfrm>
              <a:off x="450720" y="6486480"/>
              <a:ext cx="86997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57200" y="6492960"/>
              <a:ext cx="8686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Box 14"/>
          <p:cNvSpPr/>
          <p:nvPr/>
        </p:nvSpPr>
        <p:spPr>
          <a:xfrm>
            <a:off x="3657600" y="6521400"/>
            <a:ext cx="54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4"/>
          <a:stretch/>
        </p:blipFill>
        <p:spPr>
          <a:xfrm>
            <a:off x="1444680" y="1365120"/>
            <a:ext cx="1682640" cy="36831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3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6438-D4E0-4B49-96F2-3E0A8A68011C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4"/>
          </p:nvPr>
        </p:nvSpPr>
        <p:spPr>
          <a:xfrm>
            <a:off x="209520" y="475920"/>
            <a:ext cx="914400" cy="47628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04BD-3124-432A-8EDB-D366BA575C56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Subtitle 2" descr=""/>
          <p:cNvPicPr/>
          <p:nvPr/>
        </p:nvPicPr>
        <p:blipFill>
          <a:blip r:embed="rId1"/>
          <a:stretch/>
        </p:blipFill>
        <p:spPr>
          <a:xfrm>
            <a:off x="4084560" y="1646280"/>
            <a:ext cx="4456080" cy="725400"/>
          </a:xfrm>
          <a:prstGeom prst="rect">
            <a:avLst/>
          </a:prstGeom>
          <a:ln w="0">
            <a:noFill/>
          </a:ln>
        </p:spPr>
      </p:pic>
      <p:pic>
        <p:nvPicPr>
          <p:cNvPr id="250" name="Title 1" descr=""/>
          <p:cNvPicPr/>
          <p:nvPr/>
        </p:nvPicPr>
        <p:blipFill>
          <a:blip r:embed="rId2"/>
          <a:stretch/>
        </p:blipFill>
        <p:spPr>
          <a:xfrm>
            <a:off x="3943440" y="2262240"/>
            <a:ext cx="4981320" cy="3303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" descr=""/>
          <p:cNvPicPr/>
          <p:nvPr/>
        </p:nvPicPr>
        <p:blipFill>
          <a:blip r:embed="rId2"/>
          <a:stretch/>
        </p:blipFill>
        <p:spPr>
          <a:xfrm>
            <a:off x="1447920" y="1425600"/>
            <a:ext cx="6643440" cy="413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5" name="Text Box 6"/>
          <p:cNvSpPr/>
          <p:nvPr/>
        </p:nvSpPr>
        <p:spPr>
          <a:xfrm>
            <a:off x="914400" y="561672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fter you have spent time editing a template, protect it from accidental or deliberate changes. Unlock cells that will require data entry by the us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Rectangle 4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7"/>
          <p:cNvSpPr/>
          <p:nvPr/>
        </p:nvSpPr>
        <p:spPr>
          <a:xfrm>
            <a:off x="990720" y="24382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he Protect Sheet command is on the Review tab. You can allow several types of edits in the Protect Sheet dialog 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3619440" cy="426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9" name="Picture 2" descr=""/>
          <p:cNvPicPr/>
          <p:nvPr/>
        </p:nvPicPr>
        <p:blipFill>
          <a:blip r:embed="rId3"/>
          <a:stretch/>
        </p:blipFill>
        <p:spPr>
          <a:xfrm>
            <a:off x="1109520" y="1676520"/>
            <a:ext cx="567000" cy="56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Rectangle 4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7"/>
          <p:cNvSpPr/>
          <p:nvPr/>
        </p:nvSpPr>
        <p:spPr>
          <a:xfrm>
            <a:off x="533520" y="2092320"/>
            <a:ext cx="2154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emplates have the same properties as workbooks, including the thumbnail image and custom proper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2"/>
          <a:stretch/>
        </p:blipFill>
        <p:spPr>
          <a:xfrm>
            <a:off x="2641680" y="1523880"/>
            <a:ext cx="6197400" cy="464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"/>
          <p:cNvPicPr/>
          <p:nvPr/>
        </p:nvPicPr>
        <p:blipFill>
          <a:blip r:embed="rId2"/>
          <a:stretch/>
        </p:blipFill>
        <p:spPr>
          <a:xfrm>
            <a:off x="3352680" y="1835280"/>
            <a:ext cx="5438880" cy="418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5" name="Text Box 6"/>
          <p:cNvSpPr/>
          <p:nvPr/>
        </p:nvSpPr>
        <p:spPr>
          <a:xfrm>
            <a:off x="525600" y="1941480"/>
            <a:ext cx="2674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When you save an Excel template, it is automatically stored in a Templates folder. The name appears in the My templates group in Backstage vi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287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668920" cy="1511280"/>
          </a:xfrm>
          <a:prstGeom prst="rect">
            <a:avLst/>
          </a:prstGeom>
          <a:ln w="0">
            <a:noFill/>
          </a:ln>
        </p:spPr>
      </p:pic>
      <p:sp>
        <p:nvSpPr>
          <p:cNvPr id="288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50EB-BA8D-47F3-AEAF-B9F671B91149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9907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online Microsoft Template Gallery includes many professionally prepared templates in several categori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download a copy of any of these templates from Microsoft Office Onlin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y download as regular workbooks that you can edit and sav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copy of the template is saved in your My Templates folder, to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90" name="Rectangle 4" descr=""/>
          <p:cNvPicPr/>
          <p:nvPr/>
        </p:nvPicPr>
        <p:blipFill>
          <a:blip r:embed="rId1"/>
          <a:stretch/>
        </p:blipFill>
        <p:spPr>
          <a:xfrm>
            <a:off x="1006560" y="-6480"/>
            <a:ext cx="799128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Rectangle 4" descr=""/>
          <p:cNvPicPr/>
          <p:nvPr/>
        </p:nvPicPr>
        <p:blipFill>
          <a:blip r:embed="rId1"/>
          <a:stretch/>
        </p:blipFill>
        <p:spPr>
          <a:xfrm>
            <a:off x="1231920" y="171360"/>
            <a:ext cx="7753320" cy="8463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" descr=""/>
          <p:cNvPicPr/>
          <p:nvPr/>
        </p:nvPicPr>
        <p:blipFill>
          <a:blip r:embed="rId2"/>
          <a:stretch/>
        </p:blipFill>
        <p:spPr>
          <a:xfrm>
            <a:off x="1498680" y="1371600"/>
            <a:ext cx="6603840" cy="495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294" name="Title 5" descr=""/>
          <p:cNvPicPr/>
          <p:nvPr/>
        </p:nvPicPr>
        <p:blipFill>
          <a:blip r:embed="rId2"/>
          <a:stretch/>
        </p:blipFill>
        <p:spPr>
          <a:xfrm>
            <a:off x="2871720" y="2749680"/>
            <a:ext cx="6583320" cy="1511280"/>
          </a:xfrm>
          <a:prstGeom prst="rect">
            <a:avLst/>
          </a:prstGeom>
          <a:ln w="0">
            <a:noFill/>
          </a:ln>
        </p:spPr>
      </p:pic>
      <p:sp>
        <p:nvSpPr>
          <p:cNvPr id="295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AF38-9698-44CC-B500-1966FE9F1AF6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Rectangle 4" descr=""/>
          <p:cNvPicPr/>
          <p:nvPr/>
        </p:nvPicPr>
        <p:blipFill>
          <a:blip r:embed="rId1"/>
          <a:stretch/>
        </p:blipFill>
        <p:spPr>
          <a:xfrm>
            <a:off x="1006560" y="171360"/>
            <a:ext cx="8277120" cy="8463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" descr=""/>
          <p:cNvPicPr/>
          <p:nvPr/>
        </p:nvPicPr>
        <p:blipFill>
          <a:blip r:embed="rId2"/>
          <a:stretch/>
        </p:blipFill>
        <p:spPr>
          <a:xfrm>
            <a:off x="914400" y="1555920"/>
            <a:ext cx="7748640" cy="393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8" name="TextBox 5"/>
          <p:cNvSpPr/>
          <p:nvPr/>
        </p:nvSpPr>
        <p:spPr>
          <a:xfrm>
            <a:off x="1397160" y="5581800"/>
            <a:ext cx="67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 macro-enabled template has an </a:t>
            </a:r>
            <a:r>
              <a:rPr b="1" i="1" lang="en-US" sz="1800" spc="-1" strike="noStrike">
                <a:solidFill>
                  <a:srgbClr val="000000"/>
                </a:solidFill>
                <a:latin typeface="Corbel"/>
              </a:rPr>
              <a:t>xltm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 file name extension. Using macros in a template is no different from using them in a workbo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Rectangle 4" descr=""/>
          <p:cNvPicPr/>
          <p:nvPr/>
        </p:nvPicPr>
        <p:blipFill>
          <a:blip r:embed="rId1"/>
          <a:stretch/>
        </p:blipFill>
        <p:spPr>
          <a:xfrm>
            <a:off x="1006560" y="171360"/>
            <a:ext cx="8277120" cy="8463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" descr=""/>
          <p:cNvPicPr/>
          <p:nvPr/>
        </p:nvPicPr>
        <p:blipFill>
          <a:blip r:embed="rId2"/>
          <a:stretch/>
        </p:blipFill>
        <p:spPr>
          <a:xfrm>
            <a:off x="1066680" y="1371600"/>
            <a:ext cx="7358040" cy="440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01" name="TextBox 6"/>
          <p:cNvSpPr/>
          <p:nvPr/>
        </p:nvSpPr>
        <p:spPr>
          <a:xfrm>
            <a:off x="1066680" y="5791320"/>
            <a:ext cx="754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Worksheet protection can be added with a password. This affects edits to the original template, not a workbook created from the templ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Title 1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252" name="Content Placeholder 3" descr=""/>
          <p:cNvPicPr/>
          <p:nvPr/>
        </p:nvPicPr>
        <p:blipFill>
          <a:blip r:embed="rId2"/>
          <a:stretch/>
        </p:blipFill>
        <p:spPr>
          <a:xfrm>
            <a:off x="324000" y="1523880"/>
            <a:ext cx="8448480" cy="4675320"/>
          </a:xfrm>
          <a:prstGeom prst="rect">
            <a:avLst/>
          </a:prstGeom>
          <a:ln w="0">
            <a:noFill/>
          </a:ln>
        </p:spPr>
      </p:pic>
      <p:sp>
        <p:nvSpPr>
          <p:cNvPr id="253" name="Slide Number Placeholder 12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1CB4-2F10-4DDC-B34A-5AEDEB60CACB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303" name="Title 5" descr=""/>
          <p:cNvPicPr/>
          <p:nvPr/>
        </p:nvPicPr>
        <p:blipFill>
          <a:blip r:embed="rId2"/>
          <a:stretch/>
        </p:blipFill>
        <p:spPr>
          <a:xfrm>
            <a:off x="3024360" y="2676600"/>
            <a:ext cx="5668920" cy="2084400"/>
          </a:xfrm>
          <a:prstGeom prst="rect">
            <a:avLst/>
          </a:prstGeom>
          <a:ln w="0">
            <a:noFill/>
          </a:ln>
        </p:spPr>
      </p:pic>
      <p:sp>
        <p:nvSpPr>
          <p:cNvPr id="304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F02B-CC97-48F1-A607-EF8F2BFFC404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Rectangle 4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ProtectWorkbook"/>
          <p:cNvPicPr/>
          <p:nvPr/>
        </p:nvPicPr>
        <p:blipFill>
          <a:blip r:embed="rId2"/>
          <a:stretch/>
        </p:blipFill>
        <p:spPr>
          <a:xfrm>
            <a:off x="5118120" y="2430360"/>
            <a:ext cx="3511440" cy="2598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07" name="Text Box 7"/>
          <p:cNvSpPr/>
          <p:nvPr/>
        </p:nvSpPr>
        <p:spPr>
          <a:xfrm>
            <a:off x="533520" y="1371600"/>
            <a:ext cx="4800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book protection includes the structure and the wind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uc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fers to inserting, deleting, moving, renaming, and hiding workshe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fers to resizing, moving, and closing the wind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Rectangle 4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" descr=""/>
          <p:cNvPicPr/>
          <p:nvPr/>
        </p:nvPicPr>
        <p:blipFill>
          <a:blip r:embed="rId2"/>
          <a:stretch/>
        </p:blipFill>
        <p:spPr>
          <a:xfrm>
            <a:off x="689040" y="2352600"/>
            <a:ext cx="8164440" cy="359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0" name="TextBox 2"/>
          <p:cNvSpPr/>
          <p:nvPr/>
        </p:nvSpPr>
        <p:spPr>
          <a:xfrm>
            <a:off x="1447920" y="1501920"/>
            <a:ext cx="670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 template or a workbook with both worksheet and workbook protection results in a restricted work environ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1218960" y="1828440"/>
            <a:ext cx="70102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template is a model workbook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emplates are stored in special folders and open as copies of the original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xcel includes sample templates that can be opened, edited, and save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3"/>
          <p:cNvSpPr/>
          <p:nvPr/>
        </p:nvSpPr>
        <p:spPr>
          <a:xfrm>
            <a:off x="1143000" y="1676520"/>
            <a:ext cx="7315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hen you create a workbook from a template, the new workbook is named with the template name and a numb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Use the Save As command to save the template with an appropriate file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create a workbook from any template, edit it, and save it as your own template with a different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1295280" y="1752120"/>
            <a:ext cx="701064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Locked property is a setting that controls whether or not a cell or object can be edited. This property works with the Protect Sheet comman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hen you use worksheet protection, the user cannot edit or change cells or objects unless they have been unlocke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1371600" y="1905120"/>
            <a:ext cx="6858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icrosoft Office Online maintains a gallery of professionally designed templates for each product in the Office suite including Exce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record macros in a template. The workbook must be saved as a macro-enabled templat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1143000" y="159984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n Excel template has an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xltx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file name extensio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macro-enabled template has an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xltm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file name extension 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orkbook protection prevents the user from resizing or moving windows and from adding, deleting, or changing worksheet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assign a password to a protected worksheet or workbook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255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668920" cy="1511280"/>
          </a:xfrm>
          <a:prstGeom prst="rect">
            <a:avLst/>
          </a:prstGeom>
          <a:ln w="0">
            <a:noFill/>
          </a:ln>
        </p:spPr>
      </p:pic>
      <p:sp>
        <p:nvSpPr>
          <p:cNvPr id="256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FE0B-736C-4CBC-9A2A-B5AB74CD3990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219320" y="1599840"/>
            <a:ext cx="67816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template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is a model workbook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template can include labels, values, formatting, range names, formulas, comments, and mor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template is often used for routine, repetitive documents that have slight variation from day to day, week to week, or month to month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6"/>
          <p:cNvSpPr/>
          <p:nvPr/>
        </p:nvSpPr>
        <p:spPr>
          <a:xfrm>
            <a:off x="520560" y="2252520"/>
            <a:ext cx="2451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Sample templates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re professionally prepared templates placed in a Templates folder when Excel is insta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2"/>
          <a:stretch/>
        </p:blipFill>
        <p:spPr>
          <a:xfrm>
            <a:off x="2971800" y="1600200"/>
            <a:ext cx="5902200" cy="442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1371240" y="1752120"/>
            <a:ext cx="655308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he File command tab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hoose New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hoose Sample templat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hoose the preferred templat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dit the new workbook as neede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"/>
          <p:cNvPicPr/>
          <p:nvPr/>
        </p:nvPicPr>
        <p:blipFill>
          <a:blip r:embed="rId2"/>
          <a:stretch/>
        </p:blipFill>
        <p:spPr>
          <a:xfrm>
            <a:off x="941400" y="2401920"/>
            <a:ext cx="7626240" cy="396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6" name="TextBox 3"/>
          <p:cNvSpPr/>
          <p:nvPr/>
        </p:nvSpPr>
        <p:spPr>
          <a:xfrm>
            <a:off x="1687680" y="1295280"/>
            <a:ext cx="646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 workbook created from a sample template is initially named with the template name and a number as in ExpenseReport1. You can save it with another file n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268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668920" cy="1511280"/>
          </a:xfrm>
          <a:prstGeom prst="rect">
            <a:avLst/>
          </a:prstGeom>
          <a:ln w="0">
            <a:noFill/>
          </a:ln>
        </p:spPr>
      </p:pic>
      <p:sp>
        <p:nvSpPr>
          <p:cNvPr id="269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9B6F-5193-4FD5-BA2E-CC9B727EC87B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6"/>
          <p:cNvSpPr/>
          <p:nvPr/>
        </p:nvSpPr>
        <p:spPr>
          <a:xfrm>
            <a:off x="1905120" y="1295280"/>
            <a:ext cx="556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user template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is one that you can create. Start with a sample template or a blank workbo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2"/>
          <a:stretch/>
        </p:blipFill>
        <p:spPr>
          <a:xfrm>
            <a:off x="1700280" y="2133720"/>
            <a:ext cx="5995800" cy="4151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17:00:57Z</dcterms:created>
  <dc:creator>Pat R. Graves</dc:creator>
  <dc:description/>
  <dc:language>en-US</dc:language>
  <cp:lastModifiedBy>cathy_tepper</cp:lastModifiedBy>
  <dcterms:modified xsi:type="dcterms:W3CDTF">2010-07-07T21:12:57Z</dcterms:modified>
  <cp:revision>74</cp:revision>
  <dc:subject/>
  <dc:title>Microsoft office</dc:title>
</cp:coreProperties>
</file>